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88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016520" y="-36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90160" y="70596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94060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4016520" y="894060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972767D-7043-469F-A9B5-616881696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4016520" y="8940960"/>
            <a:ext cx="3070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883349E-5CE9-4935-BFCB-806930556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44280" y="4470120"/>
            <a:ext cx="51973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2491-4510-42CB-90E2-5FCE6EC0D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8B1E-938D-4F8A-B7E3-F7E9EF904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D582-9A42-4D00-AAED-41C25E2AD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B7C3-B58D-4AE0-937B-922C8E6628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9DDCD-526B-4E26-B1C9-07F49A443A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F462-2B11-4322-AE0D-655B9AAF1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CE09-293B-4E46-BF65-125869615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FEFA-5DAF-429A-801C-1A24340F3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C56B-799F-4D23-829A-CBF142207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4B16-C869-4FA6-868F-ADBFD190E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6D8B-3074-49E6-8F60-A97931219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3606F-CFC9-497E-90A7-523A89C50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2108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5F79-CF2F-4CAB-B6DD-73C86D06AD52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ba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6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0DE2-BB7E-4147-AC35-58ECD38B1261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23880" y="1300320"/>
            <a:ext cx="8234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595"/>
                </a:solidFill>
                <a:latin typeface="Comic Sans MS"/>
              </a:rPr>
              <a:t>Comparing Forms of Gover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63400" y="3224160"/>
            <a:ext cx="7350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How should political and economic power be distributed in a socie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248640" y="49975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VICS – Chapt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ules of Ru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74560" y="1947960"/>
            <a:ext cx="78948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4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e &amp; 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457200" y="1890720"/>
            <a:ext cx="82296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9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paring Governments and Econom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3040" y="207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pages 20-35 and complete the cha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e the type of government or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 some positives (pr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 some negatives (c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954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gle-party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ystem in which only one political party i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s = easier to pass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 = opposition is left out of the politic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954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liamentary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ystem which voters elect lawmakers (who select a lea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s = easier to get legislation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 = no clear separation of power, frequent change of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idential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ystem which voters elect lawmakers and a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s = separation of powers, fixed terms of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 = no way to remove President, gridlock if lawmakers and President are from opposing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954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s of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a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ystem which power is centralized in nation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s = promotes national 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 = public policies may not fit the needs of the entire country or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der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ystem in which power is divided between national and regional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s = good for large, divers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 = conflict between national and regional governments, conflicting or competing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954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s of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eder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ystem which power resides in the regions, the central government gets power from regional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eder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s = prevents rise of authoritarian central government, flexible to meet lo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 = central government too weak to meet the nations needs, conflict between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954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conomic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al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economic system in which decisions about what goods and services to produce are made on the basis of tra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al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s = people can provide for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 = low standard of living, limited access to good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954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conomic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et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conomic system that relies mainly on markets to determine what goods and service to 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et econo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s = competition keeps prices from rising, meets needs based on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 = instability, periods of growth alternate with recession, unequal distribution of w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954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conomic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economic system in which decisions about what goods and services are made by the cent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s = can ensure full employment, price controls, and income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 = low worker incentive, planners less efficient than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5:36:23Z</dcterms:created>
  <dc:creator>TCI  </dc:creator>
  <dc:description/>
  <dc:language>en-US</dc:language>
  <cp:lastModifiedBy>Illinois School District U-46</cp:lastModifiedBy>
  <cp:lastPrinted>2007-08-24T20:48:01Z</cp:lastPrinted>
  <dcterms:modified xsi:type="dcterms:W3CDTF">2013-08-21T12:08:10Z</dcterms:modified>
  <cp:revision>534</cp:revision>
  <dc:subject/>
  <dc:title>PowerPoint Presentation</dc:title>
</cp:coreProperties>
</file>